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AE5-4546-4E58-8ACB-DBB41AB0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7FF-C6C0-4064-B603-3E2F3502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55E44-C8FF-4A4D-AE7E-D853FB2DEBB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CB89D-69A1-4F68-8839-7CE3EE7B615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3B786-ED66-48E9-9045-F8745BFD4A9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3290A-B912-42D1-B7F6-9383B79BC13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016B2-F3BA-4624-AE9C-D3F17F73874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7E622-7608-4619-B9A5-182D0F75275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69612-0F61-4404-B51C-CCFCDFECB09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82830-FA37-45BC-99AF-A165916764A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058A7-2781-4B41-9A26-1D407796070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7BDC8-2075-4D3C-A00F-E332AAF35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EF0-DB76-428F-80C9-350A6A6F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A02F77-D487-4B8A-B288-9BFFE0AC80B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A3AA6-AE62-45E7-A18F-8BC48094755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F885B-9AA0-4E1B-BEE7-C66BF5F9750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2B863-180E-42EC-805E-7AD86954C81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42299-5357-431F-B429-16D1EDBC275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5B709-B76E-4818-AFA8-F8A4A65D9FD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F3025-FCA0-4BC8-936F-9CA3DBA8D1C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40EC2-CE0B-40B7-A645-367955FBE4E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58048B-6EA3-4414-B184-64D5D956A11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428C3-D648-4D6F-A123-2493E3E1F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052-47C1-40FA-9EDB-1486A079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449DE-0645-42AB-9DB0-39185EE7343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9085C6-17C2-445B-9C0D-B45CAE50943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BB4772-4556-42B6-AC03-FEC524C9EC3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BD729A-104C-436F-95D9-F2D2C9BF3A8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6486EF-1579-4BF2-979C-D98859108E8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F415A6-93DB-462C-B96F-0D6945B9F18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7AB1F2-0C39-4CC4-A0CB-906D7A7E574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823846-5690-46B2-BC60-ED8DBECA2BD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AC4E41-7868-47C5-8544-AE69C9911DC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97E259-C70A-45CA-8FFB-5B443898C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8C965-81A1-46CB-92D0-114464EE31A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1C986D-3C43-4C49-BD6A-34F603B6981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D314A7-4522-4686-886F-6B6A0C22552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CEEF6F-1B72-43D3-B03D-5CFA4A826FD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8C8FD-1824-47BC-8F84-04B6D47B5C4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781E9-E8AE-4C44-A29E-E74D2FCB390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8ECAF-3743-4AF8-8133-6E0C0B92931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80F20-82C9-4383-A27D-DBAFD6B0C45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30391-D40F-4E6E-A1D7-C002544A51C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59E2C-4A38-48FD-B6F9-CD44BDF4CE8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A3514-BE99-4B8F-9F1E-2F7D243173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F08CE-BE88-4774-A54B-0C00673FA27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930A9-19CB-475B-ACC9-F5E25050D65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11D16-7453-4C48-99F9-C1F120095DB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D9439-E6BE-4EAA-ABDE-0AB320C893F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0B429-D9DB-4B92-A1B1-EE47809806F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52C17-B230-49EC-B430-520FA0E931B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17B5B-24AD-4903-A28B-B34DFFCC20E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590C3-6577-4A2F-950F-44CBDDBC155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70B33-BEB2-4A7F-8B95-8934AA906B4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574CA-7B57-49B7-9F5A-280FA284648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F4B35-DA96-4CAA-A99F-CF2AD397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C1D44-9CC7-4A2C-9B4C-8F50FA15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55336-501A-4445-BDAB-13139FAF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17C6B-6543-4654-9DB6-542EE3B9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A5C21-DADE-4B9A-A085-6F6E8BC5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19F51-FE37-49F6-AC44-8D993D0A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077AE-186B-4362-9046-9D0CE49E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CA192-7F17-4B8B-85EE-3BA9E22B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F0660-F4B8-4CF6-870D-3F6B8E91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87D34-87D7-4097-AC45-33156D5AC01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74D54-937E-4907-B010-19DC9370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41A57-1D0E-4EFD-B579-E4B7486E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1B152-C850-45A7-87B0-F10169E5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824-CB18-49A3-A10C-FD3323A4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692FC-B08B-40D5-9AEB-7AA2ECCAC4F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94BBE8-219E-4086-8321-141A87C62D5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DD02C3-DB66-49F1-A5B1-A0F55807109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A45C3C-3197-4BEE-9A8A-58E73DF23CA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EA2D3B-1B13-4AEF-B9CB-3192B82584B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8AA5A3-E8DE-4A61-8674-694A4660EC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DED16-46C5-4E25-8D68-2937F1564E8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B8AADE-3006-4A32-8E9F-924EEC9814F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84D1CD-835B-45A0-87A1-82F02F1F81D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C5B510-39C8-49E0-ADC7-5505F6C203A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798FF0-3A3B-4581-AF87-4C45722AA74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8CC5A6-6AF1-45EA-B5C2-225A350B862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54AB13-7FA2-4625-A8AB-93B2F786243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E27DBC-BC74-4309-A010-1FE6845B8CC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32B92-268F-47A7-A0A7-47B7964F3E9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28A46-44C6-4E28-9470-EB520258A25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A1736D-F1CD-4BE5-8847-5C8652FC97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30CC0-810C-449A-99AC-BD34DB134B8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63714A-6817-4917-9AD6-1A4CF3917AB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9402E-C047-48B8-9A35-1AAD720BABA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75AE0-8838-48CC-8E7B-A0EFCA97716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64D03-724C-4F0A-B87D-58653C749E6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5A099-5FCD-401C-911F-55D70D07112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FC218-37E7-4475-B61F-4ADD2F8321C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44D259-B2B1-4827-B987-2291E364C09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B1273-E359-422D-86E4-B5A041287B2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F3C20-C28E-42E6-9162-70AFB8D8FF0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02966-DD2D-4FD0-8DAD-E1BC13B4D3F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DCC4E-6BD3-4E00-8BF6-77AC4EE4003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B9E60-B90F-4081-A1FC-ED5B8299ADC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1E66D-0082-4521-A4B9-13AE2EAB7D0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91845-C630-4EE5-B13C-0C9036BB5A3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654F9-0F55-437E-9696-C99F6580A18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50E9D-0D74-4946-8FA0-DB414251AEF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C6A27-9A23-4361-9D0B-1A336ACC699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7B4A4-4A99-43D3-AF41-714A34AFA84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571DF-0253-4967-9827-B90EE0FC4DF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A57EF-409D-4EE5-8679-6DD29C3815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DBABAB-4CBC-4F0B-A9ED-7262EEBFF15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368B7-1F51-429B-A5B8-2D00115BE1C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0F074-2C58-4F70-9427-2EE9E117A81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0DF5F-C158-41B8-9EFC-C5F293BE46A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9B6C01-1A5F-4A80-9C8B-170D8FF7529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C2EF8B-CB97-409F-B03C-D521EFFD000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5B7F3D-406D-44FB-8D7A-6F81FBD4B76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8F4F65-9254-4E60-B274-6C6646128E9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0767B6-5744-47C2-B7CA-A7DA076F5D4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41E69A-67B7-4ACC-A6BC-0D268351116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6B55D8-F571-4DA2-BA47-AD5CB0C6C8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50B5E7-2DDB-4883-B9E0-F1638FE9D8A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C58AC3-A091-4E27-A465-8C21C6F66A3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185560-0DCD-40F1-9543-6E66F05E9E0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18C38D-7525-4DFB-B899-DD56BE55515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A9FBCB-8392-4F98-BE79-55FAB3AEBB9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D75317-6CEA-4448-A60D-2E6E411FDE8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2D077-3B2F-4B6E-8051-420B88F75B0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BF675-93D4-46ED-AAA9-4D0B32702F9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11C0F-E78F-4806-84E9-208DAF16C6F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C8824-3854-42A5-A6DD-4B94876D5C2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5DFA9-6C6F-4DC0-BCD1-C30E12930D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EC9939-EDA1-4660-B278-E6AD18AAAD1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CEFBB8-622F-4615-A746-09A9817551D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B71BB-1DEE-4436-AD1E-F076683F45C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C1FD7-8508-477E-8F3B-4FA2C31444E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EAF07-B30B-4A71-9867-1BD7727A48D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77216E-F2A3-46F9-B956-1A7774B3FD4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CE9DD-DFB2-4F52-BB92-B1DA1052CF3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A681B-312A-4981-9FBE-61736F08205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6B42E-D291-499F-A363-A7987412EAE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65F26-8C48-4AB2-8926-D1E5B114BE8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78EDA-1C21-4AEA-8BBE-70754788D9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2EA333-698A-4EBB-8A71-E5EAC9C1BAD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DFAF6-71C4-414E-A12D-DC754083621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0CC8F-B611-4A9B-8445-8CF12F9907A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F352A-6907-44D2-A5CD-60190176D9A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E2C78-9A4A-4C38-8549-6B2D0B760A6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D8651-6C0A-4D77-B5F1-FD3B560C752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66EA3-5FA6-4E5F-AA8E-A7EC31B6CD1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F6064-C682-477E-A125-EE49C4E6FFA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95264-9393-4F94-9128-C14E303E07B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B263E-7F77-4E56-8167-D721B3B0A69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C2B448-B1CF-46BE-BDC7-2DBD945217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2AF169-2CB5-4447-99A9-2DEF06B9E9D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5336F9-F347-4114-AFA7-24B75745736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46F751-40DF-44CC-B9E1-50233B34103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E3D67A-8AE2-473C-AA97-D7A176130C5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177CAB-FD43-463E-B5CE-07D1E9E6350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6CDC2F-633F-4AAE-A433-C5DD82B2676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898DA7-6523-4E90-AEE3-536B244620B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628098-FC40-4706-8EFD-E8E17138C31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5819CE-09D6-40F1-B236-7A392A0E2FD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354D38-FDAF-4B42-9865-0F68569E111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917B71-B2DA-4C28-918F-EFE43D686E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59C-44FD-4EAB-A6A1-B70EFD76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658E90-30BE-4FBF-9C35-A16E98E8ACE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57B54F-0BA4-4196-8C6E-C0DAF0601C7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29764-657B-4244-8F44-2F14B1FE789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060D1-35C9-4B52-8DE9-135265CA2A50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E68C8D-D126-4D78-91BB-346D73A82A57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655369-D37A-4511-A6D6-058BDF88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E37C97-DB7E-497C-9D4F-5FCFB3DD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18851A-7F03-420A-9949-29F84BCC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DF6929-7B1A-491F-98CE-2A76C57B8CBE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3DC2A8-E46A-4441-93B2-5F29511E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05C08D-C73B-4718-82E2-D8F0B81E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26D3E8-A643-47A4-A2C7-C7E307F0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2ABE09-07AB-47A2-8829-7836C984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903DF6-0451-4F3F-9856-4EB456BD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1D6476-82D5-4FF2-9E7F-267F5B36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FBFE40-FED4-4F97-9776-FC6FE61B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D83ED2-0296-4ADB-A7BB-02D9D3A2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370681-F1E3-43BF-A744-72D85F32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874730-F516-4A1D-86D8-2DBA5C6172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3D60AF-B9F6-4FF7-8610-113409167B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4A1-2AF4-4100-9CBF-E584DE94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8C72-44B2-48EF-A9BA-5597E5828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BD5-8F08-473C-A2E8-97484B80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9A734-196D-4AE8-AF21-9B9D67872AF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F230F-0276-4144-8E1D-6CBFCD6DF48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808C6-EEEB-4298-B1F7-88FC889553D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8423-47FE-4C31-A7C3-AE2823AC0A4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8BFF0-2056-4729-9D70-16B06AA7F68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B5D9-D6D4-41FE-A7B2-00D4722EEE4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2444D-2F58-4098-BD57-CC15293F52C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B88C9-0870-47A0-B2B0-1ED84C71F20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2A318-ED25-46FF-8067-041D9DBE2A4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80D16-394E-4C48-B598-EB2A00659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706-AD6E-4C84-A194-F4062244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BCD71-C8E3-4ABF-AACE-21739A11307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77372-D0EC-4B5D-B191-53FFD0C19A2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FF0BD-56E6-4513-A4C6-E3B5F345036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025CFA-E64F-4E1C-8C4D-F1AEFE641FD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980825-D046-4E85-A592-52217FA32E1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9945D-0BB2-4DA0-AE6F-EB5C0517411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A7CB86-E705-4094-B60B-E6D869FE066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A220C-7A57-4473-B27A-D5A9BF2A4FD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4FADA4-8404-434D-8AEC-21793328012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5FD87D-BB46-42C4-9D41-7FF25BBAA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0F8-4DD9-40C2-9E0D-1AD3A153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05403C-1869-41B1-8745-61EE5F7717F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75D07-CFAA-4565-B53B-9A06DBFD648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173C4-7DEB-4740-AE35-FFD082A42F7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4F6-7585-49FF-939A-00D12401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45AC06-FA46-4029-BE31-D0DD9DB96EF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6951C3-88F3-41E4-811C-7BCC507050E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C2C8CE-9385-4E94-BFDE-46DF2EFD9C2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49AE51-2130-4D0A-A112-CB6169A5B44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CDFED3-0714-47BA-BB74-811ECF2EA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FCCE-A24D-4096-BC8A-42E0E374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285AB7-C9AF-4414-BE4B-2C9A0A021F4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E4C8DB-B600-4684-A9D1-155AA3D5404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94608F-FFEE-4EC6-A79B-DA1D7650772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A4DD19-E9C1-482B-9EF7-D8C604C8F50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2069AB-0E57-43B0-B67E-4B04BD8E054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DB2BC7-338F-477B-AFB2-FD95296375A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7DE7F6-279E-403B-8D75-5013350DE69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CB322-1750-42C1-8269-38579237207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D6E0A-4D55-4115-8EEB-9F67D76683F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E7B74-D3A8-4277-B6F5-1790C41A4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9023-8956-4453-B7AB-98A113F2EF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65A8-BCF6-4846-AC13-18451DABF19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A23C-B9CE-4730-95F7-E0CCE465F50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27BE-9A33-45F1-AB97-98E5EC82748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F0B2-3ADC-4B6E-9B99-3A692205226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BF29-F311-4DD2-BBB7-4020B118E58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9C6F-A49B-4459-8F2F-0EC83EF6F61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18AE-2A6A-42DF-A4D5-C96B975DD89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3460-2D4B-488F-BE2E-4357C8473AF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104E-6BBA-430C-8B53-7CFF8941713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9DE8-E77E-48EA-B4AB-06A5FE51393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B486-948F-4447-8CC5-E06F165E331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DAF7-293F-4E28-BA9A-B4251098754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EC78-6235-4F0B-BF65-7DFBC1A6328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BF0C-FA8F-44A4-A537-4E10355AA1B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D1A6-A6D9-41CC-A103-60B308ADF8F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CB94-B0B8-4FA5-A348-51986FD4425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9F05-1569-4234-93B9-DB58B456E01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B001-1BD5-4A80-8D5A-BEABB2527E7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642960" y="46512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交通安全不是问题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问题是解决的方案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TextBox 12"/>
          <p:cNvSpPr/>
          <p:nvPr/>
        </p:nvSpPr>
        <p:spPr>
          <a:xfrm>
            <a:off x="4143240" y="17859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们有解决的方案啦！！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Box 17"/>
          <p:cNvSpPr/>
          <p:nvPr/>
        </p:nvSpPr>
        <p:spPr>
          <a:xfrm>
            <a:off x="142920" y="28584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1515960" y="2243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广西自治区南宁市卫国小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Box 1"/>
          <p:cNvSpPr/>
          <p:nvPr/>
        </p:nvSpPr>
        <p:spPr>
          <a:xfrm>
            <a:off x="1187280" y="80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卷首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矩形​​ 4"/>
          <p:cNvSpPr/>
          <p:nvPr/>
        </p:nvSpPr>
        <p:spPr>
          <a:xfrm>
            <a:off x="969840" y="1515960"/>
            <a:ext cx="41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Box 9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Box 2"/>
          <p:cNvSpPr/>
          <p:nvPr/>
        </p:nvSpPr>
        <p:spPr>
          <a:xfrm>
            <a:off x="1510200" y="160956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 action="ppaction://hlinksldjump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3"/>
          <p:cNvSpPr/>
          <p:nvPr/>
        </p:nvSpPr>
        <p:spPr>
          <a:xfrm>
            <a:off x="3311640" y="2395440"/>
            <a:ext cx="32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 action="ppaction://hlinksldjump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4"/>
          <p:cNvSpPr/>
          <p:nvPr/>
        </p:nvSpPr>
        <p:spPr>
          <a:xfrm>
            <a:off x="1071720" y="3214800"/>
            <a:ext cx="428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 action="ppaction://hlinksldjump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5"/>
          <p:cNvSpPr/>
          <p:nvPr/>
        </p:nvSpPr>
        <p:spPr>
          <a:xfrm>
            <a:off x="1114920" y="80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TextBox 6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TextBox 7"/>
          <p:cNvSpPr/>
          <p:nvPr/>
        </p:nvSpPr>
        <p:spPr>
          <a:xfrm>
            <a:off x="1073160" y="4029120"/>
            <a:ext cx="32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 action="ppaction://hlinksldjump"/>
              </a:rPr>
              <a:t>四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奇思妙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Picture 1" descr="D:\卫国小学\map01.jpg"/>
          <p:cNvPicPr/>
          <p:nvPr/>
        </p:nvPicPr>
        <p:blipFill>
          <a:blip r:embed="rId2"/>
          <a:srcRect l="2122" t="1870" r="907" b="-399"/>
          <a:stretch/>
        </p:blipFill>
        <p:spPr>
          <a:xfrm>
            <a:off x="428760" y="1428840"/>
            <a:ext cx="5286240" cy="4000320"/>
          </a:xfrm>
          <a:prstGeom prst="rect">
            <a:avLst/>
          </a:prstGeom>
          <a:ln w="0">
            <a:noFill/>
          </a:ln>
        </p:spPr>
      </p:pic>
      <p:sp>
        <p:nvSpPr>
          <p:cNvPr id="1197" name="矩形​​ 7"/>
          <p:cNvSpPr/>
          <p:nvPr/>
        </p:nvSpPr>
        <p:spPr>
          <a:xfrm>
            <a:off x="5857920" y="1359000"/>
            <a:ext cx="2500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中国广西南宁市卫国小学位于旧城商业区内，是服务于华强社区的一所学校。学校共有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802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名师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学区占地面积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2.1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平方公里，学区内人口约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3.7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万人，人口密度为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84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方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Box 8"/>
          <p:cNvSpPr/>
          <p:nvPr/>
        </p:nvSpPr>
        <p:spPr>
          <a:xfrm>
            <a:off x="167256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我们的学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Box 9"/>
          <p:cNvSpPr/>
          <p:nvPr/>
        </p:nvSpPr>
        <p:spPr>
          <a:xfrm>
            <a:off x="115704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Box 10"/>
          <p:cNvSpPr/>
          <p:nvPr/>
        </p:nvSpPr>
        <p:spPr>
          <a:xfrm>
            <a:off x="285840" y="-684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直接连接符 14"/>
          <p:cNvSpPr/>
          <p:nvPr/>
        </p:nvSpPr>
        <p:spPr>
          <a:xfrm>
            <a:off x="785880" y="40719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任意多边形 22"/>
          <p:cNvSpPr/>
          <p:nvPr/>
        </p:nvSpPr>
        <p:spPr>
          <a:xfrm>
            <a:off x="857160" y="2590920"/>
            <a:ext cx="4591080" cy="2554200"/>
          </a:xfrm>
          <a:custGeom>
            <a:avLst/>
            <a:gdLst/>
            <a:ahLst/>
            <a:rect l="l" t="t" r="r" b="b"/>
            <a:pathLst>
              <a:path w="4690534" h="2626370">
                <a:moveTo>
                  <a:pt x="0" y="1473200"/>
                </a:moveTo>
                <a:cubicBezTo>
                  <a:pt x="38021" y="1435179"/>
                  <a:pt x="14042" y="1451585"/>
                  <a:pt x="76200" y="1430866"/>
                </a:cubicBezTo>
                <a:lnTo>
                  <a:pt x="101600" y="1422400"/>
                </a:lnTo>
                <a:cubicBezTo>
                  <a:pt x="141852" y="1395564"/>
                  <a:pt x="117345" y="1408685"/>
                  <a:pt x="177800" y="1388533"/>
                </a:cubicBezTo>
                <a:lnTo>
                  <a:pt x="203200" y="1380066"/>
                </a:lnTo>
                <a:cubicBezTo>
                  <a:pt x="341075" y="1334109"/>
                  <a:pt x="219794" y="1371810"/>
                  <a:pt x="584200" y="1363133"/>
                </a:cubicBezTo>
                <a:cubicBezTo>
                  <a:pt x="611028" y="1354190"/>
                  <a:pt x="611553" y="1356490"/>
                  <a:pt x="635000" y="1337733"/>
                </a:cubicBezTo>
                <a:cubicBezTo>
                  <a:pt x="641233" y="1332746"/>
                  <a:pt x="645089" y="1324907"/>
                  <a:pt x="651934" y="1320800"/>
                </a:cubicBezTo>
                <a:cubicBezTo>
                  <a:pt x="659587" y="1316208"/>
                  <a:pt x="669352" y="1316324"/>
                  <a:pt x="677334" y="1312333"/>
                </a:cubicBezTo>
                <a:cubicBezTo>
                  <a:pt x="686435" y="1307782"/>
                  <a:pt x="693435" y="1299533"/>
                  <a:pt x="702734" y="1295400"/>
                </a:cubicBezTo>
                <a:cubicBezTo>
                  <a:pt x="719045" y="1288151"/>
                  <a:pt x="736601" y="1284111"/>
                  <a:pt x="753534" y="1278466"/>
                </a:cubicBezTo>
                <a:cubicBezTo>
                  <a:pt x="772841" y="1272030"/>
                  <a:pt x="787401" y="1255889"/>
                  <a:pt x="804334" y="1244600"/>
                </a:cubicBezTo>
                <a:cubicBezTo>
                  <a:pt x="824138" y="1231398"/>
                  <a:pt x="822351" y="1220379"/>
                  <a:pt x="838200" y="1202266"/>
                </a:cubicBezTo>
                <a:cubicBezTo>
                  <a:pt x="899134" y="1132628"/>
                  <a:pt x="858114" y="1181257"/>
                  <a:pt x="905934" y="1143000"/>
                </a:cubicBezTo>
                <a:cubicBezTo>
                  <a:pt x="947825" y="1109487"/>
                  <a:pt x="895796" y="1144670"/>
                  <a:pt x="939800" y="1100666"/>
                </a:cubicBezTo>
                <a:cubicBezTo>
                  <a:pt x="946995" y="1093471"/>
                  <a:pt x="956733" y="1089377"/>
                  <a:pt x="965200" y="1083733"/>
                </a:cubicBezTo>
                <a:cubicBezTo>
                  <a:pt x="980103" y="1039026"/>
                  <a:pt x="968716" y="1065760"/>
                  <a:pt x="1007534" y="1007533"/>
                </a:cubicBezTo>
                <a:cubicBezTo>
                  <a:pt x="1013178" y="999066"/>
                  <a:pt x="1016000" y="987777"/>
                  <a:pt x="1024467" y="982133"/>
                </a:cubicBezTo>
                <a:cubicBezTo>
                  <a:pt x="1032934" y="976489"/>
                  <a:pt x="1041921" y="971557"/>
                  <a:pt x="1049867" y="965200"/>
                </a:cubicBezTo>
                <a:cubicBezTo>
                  <a:pt x="1091756" y="931688"/>
                  <a:pt x="1039731" y="966868"/>
                  <a:pt x="1083734" y="922866"/>
                </a:cubicBezTo>
                <a:cubicBezTo>
                  <a:pt x="1090929" y="915671"/>
                  <a:pt x="1100667" y="911577"/>
                  <a:pt x="1109134" y="905933"/>
                </a:cubicBezTo>
                <a:lnTo>
                  <a:pt x="1143000" y="855133"/>
                </a:lnTo>
                <a:cubicBezTo>
                  <a:pt x="1152901" y="840281"/>
                  <a:pt x="1154290" y="821266"/>
                  <a:pt x="1159934" y="804333"/>
                </a:cubicBezTo>
                <a:cubicBezTo>
                  <a:pt x="1162756" y="795866"/>
                  <a:pt x="1162089" y="785244"/>
                  <a:pt x="1168400" y="778933"/>
                </a:cubicBezTo>
                <a:cubicBezTo>
                  <a:pt x="1209462" y="737871"/>
                  <a:pt x="1188983" y="753922"/>
                  <a:pt x="1227667" y="728133"/>
                </a:cubicBezTo>
                <a:cubicBezTo>
                  <a:pt x="1279785" y="649955"/>
                  <a:pt x="1213277" y="746121"/>
                  <a:pt x="1261534" y="685800"/>
                </a:cubicBezTo>
                <a:cubicBezTo>
                  <a:pt x="1267891" y="677854"/>
                  <a:pt x="1272110" y="668346"/>
                  <a:pt x="1278467" y="660400"/>
                </a:cubicBezTo>
                <a:cubicBezTo>
                  <a:pt x="1283454" y="654167"/>
                  <a:pt x="1290413" y="649699"/>
                  <a:pt x="1295400" y="643466"/>
                </a:cubicBezTo>
                <a:cubicBezTo>
                  <a:pt x="1301757" y="635520"/>
                  <a:pt x="1304388" y="624423"/>
                  <a:pt x="1312334" y="618066"/>
                </a:cubicBezTo>
                <a:cubicBezTo>
                  <a:pt x="1319303" y="612491"/>
                  <a:pt x="1329267" y="612422"/>
                  <a:pt x="1337734" y="609600"/>
                </a:cubicBezTo>
                <a:cubicBezTo>
                  <a:pt x="1343378" y="601133"/>
                  <a:pt x="1350116" y="593301"/>
                  <a:pt x="1354667" y="584200"/>
                </a:cubicBezTo>
                <a:cubicBezTo>
                  <a:pt x="1358658" y="576218"/>
                  <a:pt x="1358183" y="566226"/>
                  <a:pt x="1363134" y="558800"/>
                </a:cubicBezTo>
                <a:cubicBezTo>
                  <a:pt x="1369776" y="548837"/>
                  <a:pt x="1380869" y="542598"/>
                  <a:pt x="1388534" y="533400"/>
                </a:cubicBezTo>
                <a:cubicBezTo>
                  <a:pt x="1395048" y="525583"/>
                  <a:pt x="1399110" y="515946"/>
                  <a:pt x="1405467" y="508000"/>
                </a:cubicBezTo>
                <a:cubicBezTo>
                  <a:pt x="1410454" y="501767"/>
                  <a:pt x="1417290" y="497198"/>
                  <a:pt x="1422400" y="491066"/>
                </a:cubicBezTo>
                <a:cubicBezTo>
                  <a:pt x="1438864" y="471309"/>
                  <a:pt x="1445587" y="455584"/>
                  <a:pt x="1464734" y="440266"/>
                </a:cubicBezTo>
                <a:cubicBezTo>
                  <a:pt x="1472680" y="433909"/>
                  <a:pt x="1481667" y="428977"/>
                  <a:pt x="1490134" y="423333"/>
                </a:cubicBezTo>
                <a:lnTo>
                  <a:pt x="1524000" y="372533"/>
                </a:lnTo>
                <a:lnTo>
                  <a:pt x="1540934" y="347133"/>
                </a:lnTo>
                <a:cubicBezTo>
                  <a:pt x="1564917" y="275180"/>
                  <a:pt x="1531468" y="362909"/>
                  <a:pt x="1566334" y="304800"/>
                </a:cubicBezTo>
                <a:cubicBezTo>
                  <a:pt x="1593599" y="259358"/>
                  <a:pt x="1549608" y="296195"/>
                  <a:pt x="1600200" y="262466"/>
                </a:cubicBezTo>
                <a:cubicBezTo>
                  <a:pt x="1616684" y="213017"/>
                  <a:pt x="1595770" y="258430"/>
                  <a:pt x="1634067" y="220133"/>
                </a:cubicBezTo>
                <a:cubicBezTo>
                  <a:pt x="1680199" y="174001"/>
                  <a:pt x="1636354" y="193970"/>
                  <a:pt x="1684867" y="177800"/>
                </a:cubicBezTo>
                <a:cubicBezTo>
                  <a:pt x="1690511" y="172155"/>
                  <a:pt x="1695158" y="165294"/>
                  <a:pt x="1701800" y="160866"/>
                </a:cubicBezTo>
                <a:cubicBezTo>
                  <a:pt x="1717488" y="150407"/>
                  <a:pt x="1762207" y="132640"/>
                  <a:pt x="1778000" y="127000"/>
                </a:cubicBezTo>
                <a:cubicBezTo>
                  <a:pt x="1803214" y="117995"/>
                  <a:pt x="1827946" y="106851"/>
                  <a:pt x="1854200" y="101600"/>
                </a:cubicBezTo>
                <a:cubicBezTo>
                  <a:pt x="1883308" y="95778"/>
                  <a:pt x="1902493" y="92639"/>
                  <a:pt x="1930400" y="84666"/>
                </a:cubicBezTo>
                <a:cubicBezTo>
                  <a:pt x="1938981" y="82214"/>
                  <a:pt x="1947333" y="79022"/>
                  <a:pt x="1955800" y="76200"/>
                </a:cubicBezTo>
                <a:cubicBezTo>
                  <a:pt x="1964267" y="70555"/>
                  <a:pt x="1971847" y="63274"/>
                  <a:pt x="1981200" y="59266"/>
                </a:cubicBezTo>
                <a:cubicBezTo>
                  <a:pt x="1993361" y="54054"/>
                  <a:pt x="2047766" y="44742"/>
                  <a:pt x="2057400" y="42333"/>
                </a:cubicBezTo>
                <a:cubicBezTo>
                  <a:pt x="2089167" y="34391"/>
                  <a:pt x="2082747" y="31470"/>
                  <a:pt x="2116667" y="16933"/>
                </a:cubicBezTo>
                <a:cubicBezTo>
                  <a:pt x="2133677" y="9643"/>
                  <a:pt x="2158741" y="4298"/>
                  <a:pt x="2175934" y="0"/>
                </a:cubicBezTo>
                <a:cubicBezTo>
                  <a:pt x="2294467" y="2822"/>
                  <a:pt x="2413084" y="3202"/>
                  <a:pt x="2531534" y="8466"/>
                </a:cubicBezTo>
                <a:cubicBezTo>
                  <a:pt x="2540450" y="8862"/>
                  <a:pt x="2548952" y="12942"/>
                  <a:pt x="2556934" y="16933"/>
                </a:cubicBezTo>
                <a:cubicBezTo>
                  <a:pt x="2566035" y="21484"/>
                  <a:pt x="2573867" y="28222"/>
                  <a:pt x="2582334" y="33866"/>
                </a:cubicBezTo>
                <a:cubicBezTo>
                  <a:pt x="2608123" y="72550"/>
                  <a:pt x="2592072" y="52071"/>
                  <a:pt x="2633134" y="93133"/>
                </a:cubicBezTo>
                <a:cubicBezTo>
                  <a:pt x="2640329" y="100328"/>
                  <a:pt x="2650588" y="103709"/>
                  <a:pt x="2658534" y="110066"/>
                </a:cubicBezTo>
                <a:cubicBezTo>
                  <a:pt x="2684787" y="131069"/>
                  <a:pt x="2666116" y="126557"/>
                  <a:pt x="2700867" y="143933"/>
                </a:cubicBezTo>
                <a:cubicBezTo>
                  <a:pt x="2708849" y="147924"/>
                  <a:pt x="2718465" y="148066"/>
                  <a:pt x="2726267" y="152400"/>
                </a:cubicBezTo>
                <a:cubicBezTo>
                  <a:pt x="2744057" y="162283"/>
                  <a:pt x="2760134" y="174977"/>
                  <a:pt x="2777067" y="186266"/>
                </a:cubicBezTo>
                <a:lnTo>
                  <a:pt x="2802467" y="203200"/>
                </a:lnTo>
                <a:cubicBezTo>
                  <a:pt x="2810160" y="214739"/>
                  <a:pt x="2822927" y="237489"/>
                  <a:pt x="2836334" y="245533"/>
                </a:cubicBezTo>
                <a:cubicBezTo>
                  <a:pt x="2843987" y="250125"/>
                  <a:pt x="2853752" y="250009"/>
                  <a:pt x="2861734" y="254000"/>
                </a:cubicBezTo>
                <a:cubicBezTo>
                  <a:pt x="2870835" y="258551"/>
                  <a:pt x="2877835" y="266800"/>
                  <a:pt x="2887134" y="270933"/>
                </a:cubicBezTo>
                <a:cubicBezTo>
                  <a:pt x="2903445" y="278182"/>
                  <a:pt x="2921001" y="282222"/>
                  <a:pt x="2937934" y="287866"/>
                </a:cubicBezTo>
                <a:lnTo>
                  <a:pt x="2963334" y="296333"/>
                </a:lnTo>
                <a:cubicBezTo>
                  <a:pt x="2971801" y="299155"/>
                  <a:pt x="2981308" y="299850"/>
                  <a:pt x="2988734" y="304800"/>
                </a:cubicBezTo>
                <a:cubicBezTo>
                  <a:pt x="2997201" y="310444"/>
                  <a:pt x="3005033" y="317182"/>
                  <a:pt x="3014134" y="321733"/>
                </a:cubicBezTo>
                <a:cubicBezTo>
                  <a:pt x="3027672" y="328502"/>
                  <a:pt x="3060734" y="335047"/>
                  <a:pt x="3073400" y="338666"/>
                </a:cubicBezTo>
                <a:cubicBezTo>
                  <a:pt x="3081981" y="341118"/>
                  <a:pt x="3090333" y="344311"/>
                  <a:pt x="3098800" y="347133"/>
                </a:cubicBezTo>
                <a:cubicBezTo>
                  <a:pt x="3104445" y="352777"/>
                  <a:pt x="3108889" y="359959"/>
                  <a:pt x="3115734" y="364066"/>
                </a:cubicBezTo>
                <a:cubicBezTo>
                  <a:pt x="3123387" y="368658"/>
                  <a:pt x="3134165" y="366958"/>
                  <a:pt x="3141134" y="372533"/>
                </a:cubicBezTo>
                <a:cubicBezTo>
                  <a:pt x="3149080" y="378890"/>
                  <a:pt x="3150872" y="390738"/>
                  <a:pt x="3158067" y="397933"/>
                </a:cubicBezTo>
                <a:cubicBezTo>
                  <a:pt x="3165262" y="405128"/>
                  <a:pt x="3175741" y="408244"/>
                  <a:pt x="3183467" y="414866"/>
                </a:cubicBezTo>
                <a:cubicBezTo>
                  <a:pt x="3195589" y="425256"/>
                  <a:pt x="3206045" y="437444"/>
                  <a:pt x="3217334" y="448733"/>
                </a:cubicBezTo>
                <a:lnTo>
                  <a:pt x="3242734" y="474133"/>
                </a:lnTo>
                <a:cubicBezTo>
                  <a:pt x="3252712" y="484111"/>
                  <a:pt x="3265760" y="490499"/>
                  <a:pt x="3276600" y="499533"/>
                </a:cubicBezTo>
                <a:cubicBezTo>
                  <a:pt x="3324856" y="539746"/>
                  <a:pt x="3256136" y="491533"/>
                  <a:pt x="3318934" y="533400"/>
                </a:cubicBezTo>
                <a:cubicBezTo>
                  <a:pt x="3330223" y="550333"/>
                  <a:pt x="3335867" y="572911"/>
                  <a:pt x="3352800" y="584200"/>
                </a:cubicBezTo>
                <a:cubicBezTo>
                  <a:pt x="3391484" y="609989"/>
                  <a:pt x="3371005" y="593938"/>
                  <a:pt x="3412067" y="635000"/>
                </a:cubicBezTo>
                <a:cubicBezTo>
                  <a:pt x="3486274" y="709207"/>
                  <a:pt x="3395463" y="615074"/>
                  <a:pt x="3454400" y="685800"/>
                </a:cubicBezTo>
                <a:cubicBezTo>
                  <a:pt x="3491099" y="729839"/>
                  <a:pt x="3466350" y="694833"/>
                  <a:pt x="3505200" y="728133"/>
                </a:cubicBezTo>
                <a:cubicBezTo>
                  <a:pt x="3517322" y="738523"/>
                  <a:pt x="3527778" y="750711"/>
                  <a:pt x="3539067" y="762000"/>
                </a:cubicBezTo>
                <a:cubicBezTo>
                  <a:pt x="3546262" y="769195"/>
                  <a:pt x="3549299" y="779742"/>
                  <a:pt x="3556000" y="787400"/>
                </a:cubicBezTo>
                <a:cubicBezTo>
                  <a:pt x="3616934" y="857038"/>
                  <a:pt x="3575914" y="808409"/>
                  <a:pt x="3623734" y="846666"/>
                </a:cubicBezTo>
                <a:cubicBezTo>
                  <a:pt x="3629967" y="851653"/>
                  <a:pt x="3633527" y="860030"/>
                  <a:pt x="3640667" y="863600"/>
                </a:cubicBezTo>
                <a:cubicBezTo>
                  <a:pt x="3651075" y="868804"/>
                  <a:pt x="3663245" y="869244"/>
                  <a:pt x="3674534" y="872066"/>
                </a:cubicBezTo>
                <a:cubicBezTo>
                  <a:pt x="3737093" y="934629"/>
                  <a:pt x="3639939" y="842518"/>
                  <a:pt x="3716867" y="897466"/>
                </a:cubicBezTo>
                <a:cubicBezTo>
                  <a:pt x="3729858" y="906745"/>
                  <a:pt x="3739445" y="920044"/>
                  <a:pt x="3750734" y="931333"/>
                </a:cubicBezTo>
                <a:cubicBezTo>
                  <a:pt x="3757929" y="938528"/>
                  <a:pt x="3768188" y="941909"/>
                  <a:pt x="3776134" y="948266"/>
                </a:cubicBezTo>
                <a:cubicBezTo>
                  <a:pt x="3782367" y="953253"/>
                  <a:pt x="3786681" y="960410"/>
                  <a:pt x="3793067" y="965200"/>
                </a:cubicBezTo>
                <a:cubicBezTo>
                  <a:pt x="3812755" y="979966"/>
                  <a:pt x="3851473" y="1006152"/>
                  <a:pt x="3877734" y="1016000"/>
                </a:cubicBezTo>
                <a:cubicBezTo>
                  <a:pt x="3888629" y="1020086"/>
                  <a:pt x="3900311" y="1021644"/>
                  <a:pt x="3911600" y="1024466"/>
                </a:cubicBezTo>
                <a:cubicBezTo>
                  <a:pt x="3984394" y="1072997"/>
                  <a:pt x="3892293" y="1014812"/>
                  <a:pt x="3962400" y="1049866"/>
                </a:cubicBezTo>
                <a:cubicBezTo>
                  <a:pt x="4020871" y="1079102"/>
                  <a:pt x="3951181" y="1057646"/>
                  <a:pt x="4021667" y="1075266"/>
                </a:cubicBezTo>
                <a:cubicBezTo>
                  <a:pt x="4027311" y="1080911"/>
                  <a:pt x="4031755" y="1088093"/>
                  <a:pt x="4038600" y="1092200"/>
                </a:cubicBezTo>
                <a:cubicBezTo>
                  <a:pt x="4048080" y="1097888"/>
                  <a:pt x="4090493" y="1106921"/>
                  <a:pt x="4097867" y="1109133"/>
                </a:cubicBezTo>
                <a:cubicBezTo>
                  <a:pt x="4097902" y="1109143"/>
                  <a:pt x="4161350" y="1130294"/>
                  <a:pt x="4174067" y="1134533"/>
                </a:cubicBezTo>
                <a:cubicBezTo>
                  <a:pt x="4186041" y="1138524"/>
                  <a:pt x="4196215" y="1146779"/>
                  <a:pt x="4207934" y="1151466"/>
                </a:cubicBezTo>
                <a:cubicBezTo>
                  <a:pt x="4224507" y="1158095"/>
                  <a:pt x="4243882" y="1158499"/>
                  <a:pt x="4258734" y="1168400"/>
                </a:cubicBezTo>
                <a:lnTo>
                  <a:pt x="4334934" y="1219200"/>
                </a:lnTo>
                <a:cubicBezTo>
                  <a:pt x="4342360" y="1224151"/>
                  <a:pt x="4351867" y="1224844"/>
                  <a:pt x="4360334" y="1227666"/>
                </a:cubicBezTo>
                <a:cubicBezTo>
                  <a:pt x="4398323" y="1265657"/>
                  <a:pt x="4353208" y="1225589"/>
                  <a:pt x="4402667" y="1253066"/>
                </a:cubicBezTo>
                <a:cubicBezTo>
                  <a:pt x="4420457" y="1262949"/>
                  <a:pt x="4453467" y="1286933"/>
                  <a:pt x="4453467" y="1286933"/>
                </a:cubicBezTo>
                <a:cubicBezTo>
                  <a:pt x="4456289" y="1295400"/>
                  <a:pt x="4456359" y="1305364"/>
                  <a:pt x="4461934" y="1312333"/>
                </a:cubicBezTo>
                <a:cubicBezTo>
                  <a:pt x="4468291" y="1320279"/>
                  <a:pt x="4479388" y="1322909"/>
                  <a:pt x="4487334" y="1329266"/>
                </a:cubicBezTo>
                <a:cubicBezTo>
                  <a:pt x="4547655" y="1377523"/>
                  <a:pt x="4451489" y="1311015"/>
                  <a:pt x="4529667" y="1363133"/>
                </a:cubicBezTo>
                <a:cubicBezTo>
                  <a:pt x="4540501" y="1379384"/>
                  <a:pt x="4562869" y="1416534"/>
                  <a:pt x="4580467" y="1422400"/>
                </a:cubicBezTo>
                <a:lnTo>
                  <a:pt x="4605867" y="1430866"/>
                </a:lnTo>
                <a:cubicBezTo>
                  <a:pt x="4614334" y="1436511"/>
                  <a:pt x="4624072" y="1440605"/>
                  <a:pt x="4631267" y="1447800"/>
                </a:cubicBezTo>
                <a:cubicBezTo>
                  <a:pt x="4651392" y="1467925"/>
                  <a:pt x="4656751" y="1498851"/>
                  <a:pt x="4665134" y="1524000"/>
                </a:cubicBezTo>
                <a:lnTo>
                  <a:pt x="4673600" y="1549400"/>
                </a:lnTo>
                <a:lnTo>
                  <a:pt x="4682067" y="1574800"/>
                </a:lnTo>
                <a:lnTo>
                  <a:pt x="4690534" y="1600200"/>
                </a:lnTo>
                <a:cubicBezTo>
                  <a:pt x="4687712" y="1634067"/>
                  <a:pt x="4688732" y="1668476"/>
                  <a:pt x="4682067" y="1701800"/>
                </a:cubicBezTo>
                <a:cubicBezTo>
                  <a:pt x="4680071" y="1711778"/>
                  <a:pt x="4671835" y="1719542"/>
                  <a:pt x="4665134" y="1727200"/>
                </a:cubicBezTo>
                <a:cubicBezTo>
                  <a:pt x="4619198" y="1779698"/>
                  <a:pt x="4639463" y="1763563"/>
                  <a:pt x="4588934" y="1778000"/>
                </a:cubicBezTo>
                <a:cubicBezTo>
                  <a:pt x="4580353" y="1780452"/>
                  <a:pt x="4572337" y="1784999"/>
                  <a:pt x="4563534" y="1786466"/>
                </a:cubicBezTo>
                <a:cubicBezTo>
                  <a:pt x="4430394" y="1808656"/>
                  <a:pt x="4536403" y="1783089"/>
                  <a:pt x="4445000" y="1803400"/>
                </a:cubicBezTo>
                <a:cubicBezTo>
                  <a:pt x="4433641" y="1805924"/>
                  <a:pt x="4422279" y="1808522"/>
                  <a:pt x="4411134" y="1811866"/>
                </a:cubicBezTo>
                <a:cubicBezTo>
                  <a:pt x="4394037" y="1816995"/>
                  <a:pt x="4360334" y="1828800"/>
                  <a:pt x="4360334" y="1828800"/>
                </a:cubicBezTo>
                <a:cubicBezTo>
                  <a:pt x="4354689" y="1834444"/>
                  <a:pt x="4348387" y="1839500"/>
                  <a:pt x="4343400" y="1845733"/>
                </a:cubicBezTo>
                <a:cubicBezTo>
                  <a:pt x="4337043" y="1853679"/>
                  <a:pt x="4334413" y="1864776"/>
                  <a:pt x="4326467" y="1871133"/>
                </a:cubicBezTo>
                <a:cubicBezTo>
                  <a:pt x="4319498" y="1876708"/>
                  <a:pt x="4309534" y="1876778"/>
                  <a:pt x="4301067" y="1879600"/>
                </a:cubicBezTo>
                <a:cubicBezTo>
                  <a:pt x="4294181" y="1900257"/>
                  <a:pt x="4292079" y="1913988"/>
                  <a:pt x="4275667" y="1930400"/>
                </a:cubicBezTo>
                <a:cubicBezTo>
                  <a:pt x="4268472" y="1937595"/>
                  <a:pt x="4258734" y="1941689"/>
                  <a:pt x="4250267" y="1947333"/>
                </a:cubicBezTo>
                <a:cubicBezTo>
                  <a:pt x="4164665" y="2075735"/>
                  <a:pt x="4257321" y="1943947"/>
                  <a:pt x="4191000" y="2023533"/>
                </a:cubicBezTo>
                <a:cubicBezTo>
                  <a:pt x="4155723" y="2065866"/>
                  <a:pt x="4195234" y="2034822"/>
                  <a:pt x="4148667" y="2065866"/>
                </a:cubicBezTo>
                <a:cubicBezTo>
                  <a:pt x="4128516" y="2126320"/>
                  <a:pt x="4141635" y="2101815"/>
                  <a:pt x="4114800" y="2142066"/>
                </a:cubicBezTo>
                <a:lnTo>
                  <a:pt x="4097867" y="2192866"/>
                </a:lnTo>
                <a:cubicBezTo>
                  <a:pt x="4088898" y="2219774"/>
                  <a:pt x="4094627" y="2249656"/>
                  <a:pt x="4089400" y="2277533"/>
                </a:cubicBezTo>
                <a:cubicBezTo>
                  <a:pt x="4086111" y="2295077"/>
                  <a:pt x="4078111" y="2311400"/>
                  <a:pt x="4072467" y="2328333"/>
                </a:cubicBezTo>
                <a:cubicBezTo>
                  <a:pt x="4065020" y="2350673"/>
                  <a:pt x="4051814" y="2354149"/>
                  <a:pt x="4038600" y="2370666"/>
                </a:cubicBezTo>
                <a:cubicBezTo>
                  <a:pt x="4032243" y="2378612"/>
                  <a:pt x="4028024" y="2388120"/>
                  <a:pt x="4021667" y="2396066"/>
                </a:cubicBezTo>
                <a:cubicBezTo>
                  <a:pt x="4000704" y="2422271"/>
                  <a:pt x="4007341" y="2405927"/>
                  <a:pt x="3979334" y="2429933"/>
                </a:cubicBezTo>
                <a:cubicBezTo>
                  <a:pt x="3967212" y="2440323"/>
                  <a:pt x="3956756" y="2452511"/>
                  <a:pt x="3945467" y="2463800"/>
                </a:cubicBezTo>
                <a:cubicBezTo>
                  <a:pt x="3935291" y="2473976"/>
                  <a:pt x="3917182" y="2469144"/>
                  <a:pt x="3903134" y="2472266"/>
                </a:cubicBezTo>
                <a:cubicBezTo>
                  <a:pt x="3891775" y="2474790"/>
                  <a:pt x="3880456" y="2477536"/>
                  <a:pt x="3869267" y="2480733"/>
                </a:cubicBezTo>
                <a:cubicBezTo>
                  <a:pt x="3860686" y="2483185"/>
                  <a:pt x="3852791" y="2489110"/>
                  <a:pt x="3843867" y="2489200"/>
                </a:cubicBezTo>
                <a:lnTo>
                  <a:pt x="2184400" y="2497666"/>
                </a:lnTo>
                <a:cubicBezTo>
                  <a:pt x="2170289" y="2500488"/>
                  <a:pt x="2155950" y="2502347"/>
                  <a:pt x="2142067" y="2506133"/>
                </a:cubicBezTo>
                <a:cubicBezTo>
                  <a:pt x="2124847" y="2510829"/>
                  <a:pt x="2108978" y="2520852"/>
                  <a:pt x="2091267" y="2523066"/>
                </a:cubicBezTo>
                <a:lnTo>
                  <a:pt x="2023534" y="2531533"/>
                </a:lnTo>
                <a:cubicBezTo>
                  <a:pt x="1739034" y="2626370"/>
                  <a:pt x="1410422" y="2617855"/>
                  <a:pt x="1126067" y="2523066"/>
                </a:cubicBezTo>
                <a:cubicBezTo>
                  <a:pt x="1117600" y="2514599"/>
                  <a:pt x="1109865" y="2505331"/>
                  <a:pt x="1100667" y="2497666"/>
                </a:cubicBezTo>
                <a:cubicBezTo>
                  <a:pt x="1092850" y="2491152"/>
                  <a:pt x="1082796" y="2487578"/>
                  <a:pt x="1075267" y="2480733"/>
                </a:cubicBezTo>
                <a:cubicBezTo>
                  <a:pt x="1051641" y="2459255"/>
                  <a:pt x="1030112" y="2435578"/>
                  <a:pt x="1007534" y="2413000"/>
                </a:cubicBezTo>
                <a:lnTo>
                  <a:pt x="965200" y="2370666"/>
                </a:lnTo>
                <a:cubicBezTo>
                  <a:pt x="958005" y="2363471"/>
                  <a:pt x="955462" y="2352461"/>
                  <a:pt x="948267" y="2345266"/>
                </a:cubicBezTo>
                <a:cubicBezTo>
                  <a:pt x="941072" y="2338071"/>
                  <a:pt x="930684" y="2334847"/>
                  <a:pt x="922867" y="2328333"/>
                </a:cubicBezTo>
                <a:cubicBezTo>
                  <a:pt x="913669" y="2320668"/>
                  <a:pt x="906918" y="2310284"/>
                  <a:pt x="897467" y="2302933"/>
                </a:cubicBezTo>
                <a:cubicBezTo>
                  <a:pt x="881403" y="2290438"/>
                  <a:pt x="861058" y="2283457"/>
                  <a:pt x="846667" y="2269066"/>
                </a:cubicBezTo>
                <a:cubicBezTo>
                  <a:pt x="794790" y="2217189"/>
                  <a:pt x="851291" y="2271820"/>
                  <a:pt x="778934" y="2209800"/>
                </a:cubicBezTo>
                <a:cubicBezTo>
                  <a:pt x="772873" y="2204605"/>
                  <a:pt x="768132" y="2197976"/>
                  <a:pt x="762000" y="2192866"/>
                </a:cubicBezTo>
                <a:cubicBezTo>
                  <a:pt x="751160" y="2183832"/>
                  <a:pt x="738112" y="2177444"/>
                  <a:pt x="728134" y="2167466"/>
                </a:cubicBezTo>
                <a:cubicBezTo>
                  <a:pt x="718156" y="2157488"/>
                  <a:pt x="711768" y="2144440"/>
                  <a:pt x="702734" y="2133600"/>
                </a:cubicBezTo>
                <a:cubicBezTo>
                  <a:pt x="687652" y="2115502"/>
                  <a:pt x="680909" y="2113405"/>
                  <a:pt x="660400" y="2099733"/>
                </a:cubicBezTo>
                <a:cubicBezTo>
                  <a:pt x="657578" y="2091266"/>
                  <a:pt x="657121" y="2081595"/>
                  <a:pt x="651934" y="2074333"/>
                </a:cubicBezTo>
                <a:cubicBezTo>
                  <a:pt x="642655" y="2061342"/>
                  <a:pt x="629356" y="2051755"/>
                  <a:pt x="618067" y="2040466"/>
                </a:cubicBezTo>
                <a:cubicBezTo>
                  <a:pt x="609600" y="2031999"/>
                  <a:pt x="599309" y="2025029"/>
                  <a:pt x="592667" y="2015066"/>
                </a:cubicBezTo>
                <a:cubicBezTo>
                  <a:pt x="580092" y="1996204"/>
                  <a:pt x="576037" y="1986522"/>
                  <a:pt x="558800" y="1972733"/>
                </a:cubicBezTo>
                <a:cubicBezTo>
                  <a:pt x="550854" y="1966376"/>
                  <a:pt x="541346" y="1962157"/>
                  <a:pt x="533400" y="1955800"/>
                </a:cubicBezTo>
                <a:cubicBezTo>
                  <a:pt x="473079" y="1907543"/>
                  <a:pt x="569245" y="1974051"/>
                  <a:pt x="491067" y="1921933"/>
                </a:cubicBezTo>
                <a:cubicBezTo>
                  <a:pt x="485423" y="1913466"/>
                  <a:pt x="480491" y="1904479"/>
                  <a:pt x="474134" y="1896533"/>
                </a:cubicBezTo>
                <a:cubicBezTo>
                  <a:pt x="460348" y="1879301"/>
                  <a:pt x="450656" y="1875237"/>
                  <a:pt x="431800" y="1862666"/>
                </a:cubicBezTo>
                <a:cubicBezTo>
                  <a:pt x="393506" y="1805224"/>
                  <a:pt x="412325" y="1826256"/>
                  <a:pt x="381000" y="1794933"/>
                </a:cubicBezTo>
                <a:lnTo>
                  <a:pt x="347134" y="1693333"/>
                </a:lnTo>
                <a:cubicBezTo>
                  <a:pt x="341268" y="1675735"/>
                  <a:pt x="304118" y="1653367"/>
                  <a:pt x="287867" y="1642533"/>
                </a:cubicBezTo>
                <a:cubicBezTo>
                  <a:pt x="282223" y="1634066"/>
                  <a:pt x="277556" y="1624859"/>
                  <a:pt x="270934" y="1617133"/>
                </a:cubicBezTo>
                <a:cubicBezTo>
                  <a:pt x="260544" y="1605011"/>
                  <a:pt x="248356" y="1594555"/>
                  <a:pt x="237067" y="1583266"/>
                </a:cubicBezTo>
                <a:lnTo>
                  <a:pt x="211667" y="1557866"/>
                </a:lnTo>
                <a:cubicBezTo>
                  <a:pt x="197277" y="1543476"/>
                  <a:pt x="177800" y="1535289"/>
                  <a:pt x="160867" y="1524000"/>
                </a:cubicBezTo>
                <a:lnTo>
                  <a:pt x="135467" y="1507066"/>
                </a:lnTo>
                <a:cubicBezTo>
                  <a:pt x="127774" y="1495527"/>
                  <a:pt x="115007" y="1472777"/>
                  <a:pt x="101600" y="1464733"/>
                </a:cubicBezTo>
                <a:cubicBezTo>
                  <a:pt x="93947" y="1460141"/>
                  <a:pt x="80792" y="1463919"/>
                  <a:pt x="76200" y="1456266"/>
                </a:cubicBezTo>
                <a:cubicBezTo>
                  <a:pt x="70392" y="1446586"/>
                  <a:pt x="76200" y="1433689"/>
                  <a:pt x="76200" y="142240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圆角矩形标注 23"/>
          <p:cNvSpPr/>
          <p:nvPr/>
        </p:nvSpPr>
        <p:spPr>
          <a:xfrm>
            <a:off x="3000240" y="2357280"/>
            <a:ext cx="1714680" cy="428760"/>
          </a:xfrm>
          <a:prstGeom prst="wedgeRoundRectCallout">
            <a:avLst>
              <a:gd name="adj1" fmla="val -49319"/>
              <a:gd name="adj2" fmla="val 22705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 Box 6"/>
          <p:cNvSpPr/>
          <p:nvPr/>
        </p:nvSpPr>
        <p:spPr>
          <a:xfrm>
            <a:off x="3325680" y="2408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华强社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TextBox 7" descr=""/>
          <p:cNvPicPr/>
          <p:nvPr/>
        </p:nvPicPr>
        <p:blipFill>
          <a:blip r:embed="rId2"/>
          <a:stretch/>
        </p:blipFill>
        <p:spPr>
          <a:xfrm>
            <a:off x="2554200" y="19209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SUSAN</dc:creator>
  <dc:description/>
  <cp:keywords/>
  <dc:language>en-US</dc:language>
  <cp:lastModifiedBy>微软用户</cp:lastModifiedBy>
  <dcterms:modified xsi:type="dcterms:W3CDTF">2013-02-17T06:24:27Z</dcterms:modified>
  <cp:revision>2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